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5AE-3486-4817-B062-9E524BAF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641D-75D9-47DD-8854-3CB780BC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7953-9341-426E-A4B3-02EB6089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4F08-F717-446E-9B03-3252E933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5C0F-D4CB-4682-92E2-006D6F04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C2BF-7797-47DC-B343-785EB70E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077-0001-419F-86EB-914A9CF4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2AA-C1D2-4521-899C-2A8130BC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A6CE-E899-46DD-96A3-5E1D5833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853-1933-49ED-88DD-7FCB984B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6BE-00B7-41BA-8CFE-2FC9DCE7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B083-B7E6-4DB4-83EA-9C2C1FB0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31F5-900D-4E78-95F5-E4E14453B499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6 Flecha curvada hacia abajo"/>
          <p:cNvSpPr/>
          <p:nvPr/>
        </p:nvSpPr>
        <p:spPr>
          <a:xfrm flipH="1" flipV="1" rot="13371000">
            <a:off x="4970520" y="1164960"/>
            <a:ext cx="3502080" cy="988920"/>
          </a:xfrm>
          <a:custGeom>
            <a:avLst/>
            <a:gdLst>
              <a:gd name="textAreaLeft" fmla="*/ 782640 w 3502080"/>
              <a:gd name="textAreaRight" fmla="*/ 2595600 w 3502080"/>
              <a:gd name="textAreaTop" fmla="*/ 132480 h 988920"/>
              <a:gd name="textAreaBottom" fmla="*/ 856440 h 98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57" hR="21600" stAng="10800000" swAng="5400000"/>
                <a:lnTo>
                  <a:pt x="11181" y="0"/>
                </a:lnTo>
                <a:arcTo wR="9657" hR="21600" stAng="-5400000" swAng="3599489"/>
                <a:lnTo>
                  <a:pt x="21293" y="16200"/>
                </a:lnTo>
                <a:lnTo>
                  <a:pt x="20075" y="21600"/>
                </a:lnTo>
                <a:lnTo>
                  <a:pt x="18243" y="16200"/>
                </a:lnTo>
                <a:lnTo>
                  <a:pt x="19006" y="16200"/>
                </a:lnTo>
                <a:arcTo wR="9657" hR="21600" stAng="-1800511" swAng="-3477885"/>
                <a:lnTo>
                  <a:pt x="10419" y="67"/>
                </a:lnTo>
                <a:arcTo wR="9657" hR="21600" stAng="-5521605" swAng="-5278395"/>
                <a:close/>
              </a:path>
              <a:path fill="darkenLess" w="21600" h="21600">
                <a:moveTo>
                  <a:pt x="0" y="21600"/>
                </a:moveTo>
                <a:arcTo wR="9657" hR="21600" stAng="10800000" swAng="5400000"/>
                <a:lnTo>
                  <a:pt x="9657" y="0"/>
                </a:lnTo>
                <a:arcTo wR="9657" hR="21600" stAng="-5400000" swAng="121605"/>
                <a:lnTo>
                  <a:pt x="10419" y="67"/>
                </a:lnTo>
                <a:arcTo wR="9657" hR="21600" stAng="-5521605" swAng="-527839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15 Flecha curvada hacia abajo"/>
          <p:cNvSpPr/>
          <p:nvPr/>
        </p:nvSpPr>
        <p:spPr>
          <a:xfrm flipH="1" flipV="1" rot="14148600">
            <a:off x="4259880" y="1125720"/>
            <a:ext cx="2855880" cy="1108080"/>
          </a:xfrm>
          <a:custGeom>
            <a:avLst/>
            <a:gdLst>
              <a:gd name="textAreaLeft" fmla="*/ 610200 w 2855880"/>
              <a:gd name="textAreaRight" fmla="*/ 2107440 w 2855880"/>
              <a:gd name="textAreaTop" fmla="*/ 148320 h 1108080"/>
              <a:gd name="textAreaBottom" fmla="*/ 959760 h 110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30" hR="21600" stAng="10800000" swAng="5400000"/>
                <a:lnTo>
                  <a:pt x="11324" y="0"/>
                </a:lnTo>
                <a:arcTo wR="9230" hR="21600" stAng="-5400000" swAng="3531405"/>
                <a:lnTo>
                  <a:pt x="21307" y="16200"/>
                </a:lnTo>
                <a:lnTo>
                  <a:pt x="19506" y="21600"/>
                </a:lnTo>
                <a:lnTo>
                  <a:pt x="17119" y="16200"/>
                </a:lnTo>
                <a:lnTo>
                  <a:pt x="18166" y="16200"/>
                </a:lnTo>
                <a:arcTo wR="9230" hR="21600" stAng="-1868595" swAng="-3363820"/>
                <a:lnTo>
                  <a:pt x="10277" y="139"/>
                </a:lnTo>
                <a:arcTo wR="9230" hR="21600" stAng="-5567585" swAng="-5232415"/>
                <a:close/>
              </a:path>
              <a:path fill="darkenLess" w="21600" h="21600">
                <a:moveTo>
                  <a:pt x="0" y="21600"/>
                </a:moveTo>
                <a:arcTo wR="9230" hR="21600" stAng="10800000" swAng="5400000"/>
                <a:lnTo>
                  <a:pt x="9230" y="0"/>
                </a:lnTo>
                <a:arcTo wR="9230" hR="21600" stAng="-5400000" swAng="167585"/>
                <a:lnTo>
                  <a:pt x="10277" y="139"/>
                </a:lnTo>
                <a:arcTo wR="9230" hR="21600" stAng="-5567585" swAng="-523241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12 Flecha abajo"/>
          <p:cNvSpPr/>
          <p:nvPr/>
        </p:nvSpPr>
        <p:spPr>
          <a:xfrm>
            <a:off x="4211640" y="1413000"/>
            <a:ext cx="431640" cy="25923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Flecha curvada hacia abajo"/>
          <p:cNvSpPr/>
          <p:nvPr/>
        </p:nvSpPr>
        <p:spPr>
          <a:xfrm flipH="1" rot="19098000">
            <a:off x="1594440" y="1346040"/>
            <a:ext cx="3024000" cy="1079640"/>
          </a:xfrm>
          <a:custGeom>
            <a:avLst/>
            <a:gdLst>
              <a:gd name="textAreaLeft" fmla="*/ 654840 w 3024000"/>
              <a:gd name="textAreaRight" fmla="*/ 2234880 w 3024000"/>
              <a:gd name="textAreaTop" fmla="*/ 144360 h 1079640"/>
              <a:gd name="textAreaBottom" fmla="*/ 9352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54" hR="21600" stAng="10800000" swAng="5400000"/>
                <a:lnTo>
                  <a:pt x="11283" y="0"/>
                </a:lnTo>
                <a:arcTo wR="9354" hR="21600" stAng="-5400000" swAng="3551650"/>
                <a:lnTo>
                  <a:pt x="21303" y="16200"/>
                </a:lnTo>
                <a:lnTo>
                  <a:pt x="19672" y="21600"/>
                </a:lnTo>
                <a:lnTo>
                  <a:pt x="17446" y="16200"/>
                </a:lnTo>
                <a:lnTo>
                  <a:pt x="18410" y="16200"/>
                </a:lnTo>
                <a:arcTo wR="9354" hR="21600" stAng="-1848350" swAng="-3397426"/>
                <a:lnTo>
                  <a:pt x="10318" y="115"/>
                </a:lnTo>
                <a:arcTo wR="9354" hR="21600" stAng="-5554224" swAng="-5245776"/>
                <a:close/>
              </a:path>
              <a:path fill="darkenLess" w="21600" h="21600">
                <a:moveTo>
                  <a:pt x="0" y="21600"/>
                </a:moveTo>
                <a:arcTo wR="9354" hR="21600" stAng="10800000" swAng="5400000"/>
                <a:lnTo>
                  <a:pt x="9354" y="0"/>
                </a:lnTo>
                <a:arcTo wR="9354" hR="21600" stAng="-5400000" swAng="154224"/>
                <a:lnTo>
                  <a:pt x="10318" y="115"/>
                </a:lnTo>
                <a:arcTo wR="9354" hR="21600" stAng="-5554224" swAng="-524577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5 Flecha curvada hacia abajo"/>
          <p:cNvSpPr/>
          <p:nvPr/>
        </p:nvSpPr>
        <p:spPr>
          <a:xfrm flipH="1" rot="19098000">
            <a:off x="370440" y="1346040"/>
            <a:ext cx="3024000" cy="1079640"/>
          </a:xfrm>
          <a:custGeom>
            <a:avLst/>
            <a:gdLst>
              <a:gd name="textAreaLeft" fmla="*/ 654840 w 3024000"/>
              <a:gd name="textAreaRight" fmla="*/ 2234880 w 3024000"/>
              <a:gd name="textAreaTop" fmla="*/ 144360 h 1079640"/>
              <a:gd name="textAreaBottom" fmla="*/ 9352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54" hR="21600" stAng="10800000" swAng="5400000"/>
                <a:lnTo>
                  <a:pt x="11283" y="0"/>
                </a:lnTo>
                <a:arcTo wR="9354" hR="21600" stAng="-5400000" swAng="3551650"/>
                <a:lnTo>
                  <a:pt x="21303" y="16200"/>
                </a:lnTo>
                <a:lnTo>
                  <a:pt x="19672" y="21600"/>
                </a:lnTo>
                <a:lnTo>
                  <a:pt x="17446" y="16200"/>
                </a:lnTo>
                <a:lnTo>
                  <a:pt x="18410" y="16200"/>
                </a:lnTo>
                <a:arcTo wR="9354" hR="21600" stAng="-1848350" swAng="-3397426"/>
                <a:lnTo>
                  <a:pt x="10318" y="115"/>
                </a:lnTo>
                <a:arcTo wR="9354" hR="21600" stAng="-5554224" swAng="-5245776"/>
                <a:close/>
              </a:path>
              <a:path fill="darkenLess" w="21600" h="21600">
                <a:moveTo>
                  <a:pt x="0" y="21600"/>
                </a:moveTo>
                <a:arcTo wR="9354" hR="21600" stAng="10800000" swAng="5400000"/>
                <a:lnTo>
                  <a:pt x="9354" y="0"/>
                </a:lnTo>
                <a:arcTo wR="9354" hR="21600" stAng="-5400000" swAng="154224"/>
                <a:lnTo>
                  <a:pt x="10318" y="115"/>
                </a:lnTo>
                <a:arcTo wR="9354" hR="21600" stAng="-5554224" swAng="-524577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4 Explosión 2"/>
          <p:cNvSpPr/>
          <p:nvPr/>
        </p:nvSpPr>
        <p:spPr>
          <a:xfrm>
            <a:off x="2411280" y="260280"/>
            <a:ext cx="4105440" cy="158436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Calibri"/>
              </a:rPr>
              <a:t>SALES DO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39640" y="3141720"/>
          <a:ext cx="1443240" cy="576360"/>
        </p:xfrm>
        <a:graphic>
          <a:graphicData uri="http://schemas.openxmlformats.org/drawingml/2006/table">
            <a:tbl>
              <a:tblPr/>
              <a:tblGrid>
                <a:gridCol w="1443240"/>
              </a:tblGrid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ituidas por u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ión y dos cat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979640" y="3141720"/>
          <a:ext cx="1371600" cy="57636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n compues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éctricamen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u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508720" y="3068640"/>
          <a:ext cx="1226880" cy="770040"/>
        </p:xfrm>
        <a:graphic>
          <a:graphicData uri="http://schemas.openxmlformats.org/drawingml/2006/table">
            <a:tbl>
              <a:tblPr/>
              <a:tblGrid>
                <a:gridCol w="122688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 ser neutr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ben igualar 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gas nega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 an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7093080" y="3068640"/>
          <a:ext cx="1447560" cy="77004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cargas nega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igualan con la su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las cargas posi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los cat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900000" y="5516640"/>
          <a:ext cx="1368360" cy="43344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216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anión presenta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gas nega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924360" y="4005360"/>
          <a:ext cx="934920" cy="191880"/>
        </p:xfrm>
        <a:graphic>
          <a:graphicData uri="http://schemas.openxmlformats.org/drawingml/2006/table">
            <a:tbl>
              <a:tblPr/>
              <a:tblGrid>
                <a:gridCol w="934920"/>
              </a:tblGrid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jemp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20 Rectángulo"/>
          <p:cNvSpPr/>
          <p:nvPr/>
        </p:nvSpPr>
        <p:spPr>
          <a:xfrm>
            <a:off x="1187280" y="4292640"/>
            <a:ext cx="6769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Sb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MX" sz="2000" spc="-1" strike="noStrike" baseline="30000">
                <a:solidFill>
                  <a:srgbClr val="000000"/>
                </a:solidFill>
                <a:latin typeface="Calibri"/>
              </a:rPr>
              <a:t>-3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        +  Li</a:t>
            </a:r>
            <a:r>
              <a:rPr b="0" lang="es-MX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    +  Ca</a:t>
            </a:r>
            <a:r>
              <a:rPr b="0" lang="es-MX" sz="2000" spc="-1" strike="noStrike" baseline="30000">
                <a:solidFill>
                  <a:srgbClr val="000000"/>
                </a:solidFill>
                <a:latin typeface="Calibri"/>
              </a:rPr>
              <a:t>2+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                         CaLiSb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22 Conector recto de flecha"/>
          <p:cNvCxnSpPr/>
          <p:nvPr/>
        </p:nvCxnSpPr>
        <p:spPr>
          <a:xfrm>
            <a:off x="4716000" y="4508280"/>
            <a:ext cx="1080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24 Conector angular"/>
          <p:cNvCxnSpPr/>
          <p:nvPr/>
        </p:nvCxnSpPr>
        <p:spPr>
          <a:xfrm rot="5400000">
            <a:off x="1726920" y="4617000"/>
            <a:ext cx="936000" cy="864360"/>
          </a:xfrm>
          <a:prstGeom prst="bentConnector3">
            <a:avLst>
              <a:gd name="adj1" fmla="val 46979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26 Conector recto de flecha"/>
          <p:cNvCxnSpPr/>
          <p:nvPr/>
        </p:nvCxnSpPr>
        <p:spPr>
          <a:xfrm>
            <a:off x="2123640" y="580500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57" name=""/>
          <p:cNvGraphicFramePr/>
          <p:nvPr/>
        </p:nvGraphicFramePr>
        <p:xfrm>
          <a:off x="2484360" y="5589720"/>
          <a:ext cx="935280" cy="403200"/>
        </p:xfrm>
        <a:graphic>
          <a:graphicData uri="http://schemas.openxmlformats.org/drawingml/2006/table">
            <a:tbl>
              <a:tblPr/>
              <a:tblGrid>
                <a:gridCol w="935280"/>
              </a:tblGrid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utraliz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58" name="29 Conector recto de flecha"/>
          <p:cNvCxnSpPr/>
          <p:nvPr/>
        </p:nvCxnSpPr>
        <p:spPr>
          <a:xfrm>
            <a:off x="3276360" y="5805000"/>
            <a:ext cx="432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36 Conector angular"/>
          <p:cNvCxnSpPr/>
          <p:nvPr/>
        </p:nvCxnSpPr>
        <p:spPr>
          <a:xfrm flipH="1" rot="16200000">
            <a:off x="3420360" y="4796280"/>
            <a:ext cx="1008720" cy="432720"/>
          </a:xfrm>
          <a:prstGeom prst="bentConnector3">
            <a:avLst>
              <a:gd name="adj1" fmla="val 4998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38 Conector angular"/>
          <p:cNvCxnSpPr/>
          <p:nvPr/>
        </p:nvCxnSpPr>
        <p:spPr>
          <a:xfrm rot="5400000">
            <a:off x="3886920" y="4832280"/>
            <a:ext cx="1008720" cy="361080"/>
          </a:xfrm>
          <a:prstGeom prst="bentConnector3">
            <a:avLst>
              <a:gd name="adj1" fmla="val 48589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61" name=""/>
          <p:cNvGraphicFramePr/>
          <p:nvPr/>
        </p:nvGraphicFramePr>
        <p:xfrm>
          <a:off x="3564000" y="5589720"/>
          <a:ext cx="1655640" cy="576000"/>
        </p:xfrm>
        <a:graphic>
          <a:graphicData uri="http://schemas.openxmlformats.org/drawingml/2006/table">
            <a:tbl>
              <a:tblPr/>
              <a:tblGrid>
                <a:gridCol w="165564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 las 3 cargas posi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 aportan 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62" name="46 Conector recto de flecha"/>
          <p:cNvCxnSpPr/>
          <p:nvPr/>
        </p:nvCxnSpPr>
        <p:spPr>
          <a:xfrm>
            <a:off x="5292720" y="5805000"/>
            <a:ext cx="5752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49 Conector angular"/>
          <p:cNvCxnSpPr/>
          <p:nvPr/>
        </p:nvCxnSpPr>
        <p:spPr>
          <a:xfrm flipH="1" rot="16200000">
            <a:off x="6515640" y="4796280"/>
            <a:ext cx="866160" cy="721440"/>
          </a:xfrm>
          <a:prstGeom prst="bentConnector3">
            <a:avLst>
              <a:gd name="adj1" fmla="val 49979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64" name=""/>
          <p:cNvGraphicFramePr/>
          <p:nvPr/>
        </p:nvGraphicFramePr>
        <p:xfrm>
          <a:off x="6443640" y="5589720"/>
          <a:ext cx="1736640" cy="446040"/>
        </p:xfrm>
        <a:graphic>
          <a:graphicData uri="http://schemas.openxmlformats.org/drawingml/2006/table">
            <a:tbl>
              <a:tblPr/>
              <a:tblGrid>
                <a:gridCol w="173664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teniéndo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sal do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8 Flecha curvada hacia la derecha"/>
          <p:cNvSpPr/>
          <p:nvPr/>
        </p:nvSpPr>
        <p:spPr>
          <a:xfrm>
            <a:off x="1835280" y="907920"/>
            <a:ext cx="792000" cy="3673440"/>
          </a:xfrm>
          <a:custGeom>
            <a:avLst/>
            <a:gdLst>
              <a:gd name="textAreaLeft" fmla="*/ 105840 w 792000"/>
              <a:gd name="textAreaRight" fmla="*/ 686160 w 792000"/>
              <a:gd name="textAreaTop" fmla="*/ 843840 h 3673440"/>
              <a:gd name="textAreaBottom" fmla="*/ 273060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927" stAng="-5400000" swAng="-5400000"/>
                <a:lnTo>
                  <a:pt x="0" y="11092"/>
                </a:lnTo>
                <a:arcTo wR="21600" hR="9927" stAng="10800000" swAng="-3640261"/>
                <a:lnTo>
                  <a:pt x="16200" y="21285"/>
                </a:lnTo>
                <a:lnTo>
                  <a:pt x="21600" y="20436"/>
                </a:lnTo>
                <a:lnTo>
                  <a:pt x="16200" y="18956"/>
                </a:lnTo>
                <a:lnTo>
                  <a:pt x="16200" y="19538"/>
                </a:lnTo>
                <a:arcTo wR="21600" hR="9927" stAng="7159739" swAng="3547416"/>
                <a:lnTo>
                  <a:pt x="37" y="10509"/>
                </a:lnTo>
                <a:arcTo wR="21600" hR="9927" stAng="-10707155" swAng="5307155"/>
                <a:close/>
              </a:path>
              <a:path fill="darkenLess" w="21600" h="21600">
                <a:moveTo>
                  <a:pt x="21600" y="0"/>
                </a:moveTo>
                <a:arcTo wR="21600" hR="9927" stAng="-5400000" swAng="-5400000"/>
                <a:lnTo>
                  <a:pt x="0" y="9927"/>
                </a:lnTo>
                <a:arcTo wR="21600" hR="9927" stAng="10800000" swAng="-92845"/>
                <a:lnTo>
                  <a:pt x="37" y="10509"/>
                </a:lnTo>
                <a:arcTo wR="21600" hR="9927" stAng="-10707155" swAng="530715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Flecha curvada hacia la derecha"/>
          <p:cNvSpPr/>
          <p:nvPr/>
        </p:nvSpPr>
        <p:spPr>
          <a:xfrm>
            <a:off x="1835280" y="907920"/>
            <a:ext cx="720720" cy="2808360"/>
          </a:xfrm>
          <a:custGeom>
            <a:avLst/>
            <a:gdLst>
              <a:gd name="textAreaLeft" fmla="*/ 96480 w 720720"/>
              <a:gd name="textAreaRight" fmla="*/ 624240 w 720720"/>
              <a:gd name="textAreaTop" fmla="*/ 634320 h 2808360"/>
              <a:gd name="textAreaBottom" fmla="*/ 208404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62" stAng="-5400000" swAng="-5400000"/>
                <a:lnTo>
                  <a:pt x="0" y="11147"/>
                </a:lnTo>
                <a:arcTo wR="21600" hR="9762" stAng="10800000" swAng="-3615547"/>
                <a:lnTo>
                  <a:pt x="16200" y="21290"/>
                </a:lnTo>
                <a:lnTo>
                  <a:pt x="21600" y="20216"/>
                </a:lnTo>
                <a:lnTo>
                  <a:pt x="16200" y="18521"/>
                </a:lnTo>
                <a:lnTo>
                  <a:pt x="16200" y="19213"/>
                </a:lnTo>
                <a:arcTo wR="21600" hR="9762" stAng="7184453" swAng="3505092"/>
                <a:lnTo>
                  <a:pt x="54" y="10454"/>
                </a:lnTo>
                <a:arcTo wR="21600" hR="9762" stAng="-10689545" swAng="5289545"/>
                <a:close/>
              </a:path>
              <a:path fill="darkenLess" w="21600" h="21600">
                <a:moveTo>
                  <a:pt x="21600" y="0"/>
                </a:moveTo>
                <a:arcTo wR="21600" hR="9762" stAng="-5400000" swAng="-5400000"/>
                <a:lnTo>
                  <a:pt x="0" y="9762"/>
                </a:lnTo>
                <a:arcTo wR="21600" hR="9762" stAng="10800000" swAng="-110455"/>
                <a:lnTo>
                  <a:pt x="54" y="10454"/>
                </a:lnTo>
                <a:arcTo wR="21600" hR="9762" stAng="-10689545" swAng="528954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6 Flecha curvada hacia la derecha"/>
          <p:cNvSpPr/>
          <p:nvPr/>
        </p:nvSpPr>
        <p:spPr>
          <a:xfrm>
            <a:off x="1835280" y="907920"/>
            <a:ext cx="865080" cy="2016360"/>
          </a:xfrm>
          <a:custGeom>
            <a:avLst/>
            <a:gdLst>
              <a:gd name="textAreaLeft" fmla="*/ 115920 w 865080"/>
              <a:gd name="textAreaRight" fmla="*/ 749160 w 865080"/>
              <a:gd name="textAreaTop" fmla="*/ 423000 h 2016360"/>
              <a:gd name="textAreaBottom" fmla="*/ 148536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64" stAng="-5400000" swAng="-5400000"/>
                <a:lnTo>
                  <a:pt x="0" y="11379"/>
                </a:lnTo>
                <a:arcTo wR="21600" hR="9064" stAng="10800000" swAng="-3503756"/>
                <a:lnTo>
                  <a:pt x="16200" y="21312"/>
                </a:lnTo>
                <a:lnTo>
                  <a:pt x="21600" y="19286"/>
                </a:lnTo>
                <a:lnTo>
                  <a:pt x="16200" y="16683"/>
                </a:lnTo>
                <a:lnTo>
                  <a:pt x="16200" y="17840"/>
                </a:lnTo>
                <a:arcTo wR="21600" hR="9064" stAng="7296244" swAng="3318194"/>
                <a:lnTo>
                  <a:pt x="177" y="10221"/>
                </a:lnTo>
                <a:arcTo wR="21600" hR="9064" stAng="-10614438" swAng="5214438"/>
                <a:close/>
              </a:path>
              <a:path fill="darkenLess" w="21600" h="21600">
                <a:moveTo>
                  <a:pt x="21600" y="0"/>
                </a:moveTo>
                <a:arcTo wR="21600" hR="9064" stAng="-5400000" swAng="-5400000"/>
                <a:lnTo>
                  <a:pt x="0" y="9064"/>
                </a:lnTo>
                <a:arcTo wR="21600" hR="9064" stAng="10800000" swAng="-185562"/>
                <a:lnTo>
                  <a:pt x="177" y="10221"/>
                </a:lnTo>
                <a:arcTo wR="21600" hR="9064" stAng="-10614438" swAng="521443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Explosión 2"/>
          <p:cNvSpPr/>
          <p:nvPr/>
        </p:nvSpPr>
        <p:spPr>
          <a:xfrm>
            <a:off x="2124000" y="189000"/>
            <a:ext cx="4824360" cy="194472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Calibri"/>
              </a:rPr>
              <a:t>NOMENCLATUR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Calibri"/>
              </a:rPr>
              <a:t>DE LAS S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Calibri"/>
              </a:rPr>
              <a:t>DO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627280" y="2492280"/>
          <a:ext cx="1440000" cy="38592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nombre del an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627280" y="3284640"/>
          <a:ext cx="1228680" cy="385560"/>
        </p:xfrm>
        <a:graphic>
          <a:graphicData uri="http://schemas.openxmlformats.org/drawingml/2006/table">
            <a:tbl>
              <a:tblPr/>
              <a:tblGrid>
                <a:gridCol w="1228680"/>
              </a:tblGrid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guido la palab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doble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627280" y="4292640"/>
          <a:ext cx="1228680" cy="239760"/>
        </p:xfrm>
        <a:graphic>
          <a:graphicData uri="http://schemas.openxmlformats.org/drawingml/2006/table">
            <a:tbl>
              <a:tblPr/>
              <a:tblGrid>
                <a:gridCol w="1228680"/>
              </a:tblGrid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ego el no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12 Flecha a la derecha con muesca"/>
          <p:cNvSpPr/>
          <p:nvPr/>
        </p:nvSpPr>
        <p:spPr>
          <a:xfrm>
            <a:off x="3851280" y="4437000"/>
            <a:ext cx="433440" cy="71640"/>
          </a:xfrm>
          <a:custGeom>
            <a:avLst/>
            <a:gdLst>
              <a:gd name="textAreaLeft" fmla="*/ 18000 w 433440"/>
              <a:gd name="textAreaRight" fmla="*/ 415440 w 433440"/>
              <a:gd name="textAreaTop" fmla="*/ 18000 h 71640"/>
              <a:gd name="textAreaBottom" fmla="*/ 54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800" y="5400"/>
                </a:ln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19800" y="16200"/>
                </a:lnTo>
                <a:lnTo>
                  <a:pt x="0" y="16200"/>
                </a:lnTo>
                <a:lnTo>
                  <a:pt x="9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284720" y="4221000"/>
          <a:ext cx="866880" cy="406440"/>
        </p:xfrm>
        <a:graphic>
          <a:graphicData uri="http://schemas.openxmlformats.org/drawingml/2006/table">
            <a:tbl>
              <a:tblPr/>
              <a:tblGrid>
                <a:gridCol w="866880"/>
              </a:tblGrid>
              <a:tr h="203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ord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3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bé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74" name="17 Conector recto de flecha"/>
          <p:cNvCxnSpPr/>
          <p:nvPr/>
        </p:nvCxnSpPr>
        <p:spPr>
          <a:xfrm flipV="1">
            <a:off x="5076360" y="3788640"/>
            <a:ext cx="64836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75" name=""/>
          <p:cNvGraphicFramePr/>
          <p:nvPr/>
        </p:nvGraphicFramePr>
        <p:xfrm>
          <a:off x="5724360" y="3357720"/>
          <a:ext cx="1584360" cy="38412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los elemen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 forman los cat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76" name="20 Conector recto de flecha"/>
          <p:cNvCxnSpPr/>
          <p:nvPr/>
        </p:nvCxnSpPr>
        <p:spPr>
          <a:xfrm>
            <a:off x="5076360" y="4508280"/>
            <a:ext cx="129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77" name=""/>
          <p:cNvGraphicFramePr/>
          <p:nvPr/>
        </p:nvGraphicFramePr>
        <p:xfrm>
          <a:off x="5867280" y="3933720"/>
          <a:ext cx="2521080" cy="96228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edido de los prefij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, tri, tetra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acuerdo al subínd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 presente cada cat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la fórmula molecu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78" name="23 Conector recto de flecha"/>
          <p:cNvCxnSpPr/>
          <p:nvPr/>
        </p:nvCxnSpPr>
        <p:spPr>
          <a:xfrm>
            <a:off x="5076720" y="4652640"/>
            <a:ext cx="7912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79" name=""/>
          <p:cNvGraphicFramePr/>
          <p:nvPr/>
        </p:nvGraphicFramePr>
        <p:xfrm>
          <a:off x="5867280" y="5013360"/>
          <a:ext cx="1729080" cy="384120"/>
        </p:xfrm>
        <a:graphic>
          <a:graphicData uri="http://schemas.openxmlformats.org/drawingml/2006/table">
            <a:tbl>
              <a:tblPr/>
              <a:tblGrid>
                <a:gridCol w="1729080"/>
              </a:tblGrid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ando el subíndice es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se coloca el prefi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403280" y="4941720"/>
          <a:ext cx="723960" cy="192240"/>
        </p:xfrm>
        <a:graphic>
          <a:graphicData uri="http://schemas.openxmlformats.org/drawingml/2006/table">
            <a:tbl>
              <a:tblPr/>
              <a:tblGrid>
                <a:gridCol w="72396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jemp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30 Rectángulo"/>
          <p:cNvSpPr/>
          <p:nvPr/>
        </p:nvSpPr>
        <p:spPr>
          <a:xfrm>
            <a:off x="1342800" y="5229360"/>
            <a:ext cx="925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iNaCO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33 Conector recto de flecha"/>
          <p:cNvCxnSpPr/>
          <p:nvPr/>
        </p:nvCxnSpPr>
        <p:spPr>
          <a:xfrm>
            <a:off x="1618920" y="5589360"/>
            <a:ext cx="108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38 Conector recto de flecha"/>
          <p:cNvCxnSpPr/>
          <p:nvPr/>
        </p:nvCxnSpPr>
        <p:spPr>
          <a:xfrm>
            <a:off x="2050560" y="5589360"/>
            <a:ext cx="108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84" name=""/>
          <p:cNvGraphicFramePr/>
          <p:nvPr/>
        </p:nvGraphicFramePr>
        <p:xfrm>
          <a:off x="900000" y="5805360"/>
          <a:ext cx="1584360" cy="19224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iones          an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41 Llaves"/>
          <p:cNvSpPr/>
          <p:nvPr/>
        </p:nvSpPr>
        <p:spPr>
          <a:xfrm>
            <a:off x="2340000" y="5300640"/>
            <a:ext cx="1944720" cy="9144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Los cationes tiene como subíndice 1, por lo cual no se coloca prefijo al nomb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284720" y="5661000"/>
          <a:ext cx="1523880" cy="19224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l compue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012000" y="5661000"/>
          <a:ext cx="2663640" cy="223920"/>
        </p:xfrm>
        <a:graphic>
          <a:graphicData uri="http://schemas.openxmlformats.org/drawingml/2006/table">
            <a:tbl>
              <a:tblPr/>
              <a:tblGrid>
                <a:gridCol w="2663640"/>
              </a:tblGrid>
              <a:tr h="223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nato doble de litio y so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44 Flecha a la derecha con bandas"/>
          <p:cNvSpPr/>
          <p:nvPr/>
        </p:nvSpPr>
        <p:spPr>
          <a:xfrm>
            <a:off x="5940360" y="5732640"/>
            <a:ext cx="144360" cy="72720"/>
          </a:xfrm>
          <a:custGeom>
            <a:avLst/>
            <a:gdLst>
              <a:gd name="textAreaLeft" fmla="*/ 11160 w 144360"/>
              <a:gd name="textAreaRight" fmla="*/ 126360 w 14436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144016" h="72008">
                <a:moveTo>
                  <a:pt x="0" y="18002"/>
                </a:moveTo>
                <a:lnTo>
                  <a:pt x="2250" y="18002"/>
                </a:lnTo>
                <a:lnTo>
                  <a:pt x="2250" y="54006"/>
                </a:lnTo>
                <a:lnTo>
                  <a:pt x="0" y="54006"/>
                </a:lnTo>
                <a:close/>
                <a:moveTo>
                  <a:pt x="4501" y="18002"/>
                </a:moveTo>
                <a:lnTo>
                  <a:pt x="9001" y="18002"/>
                </a:lnTo>
                <a:lnTo>
                  <a:pt x="9001" y="54006"/>
                </a:lnTo>
                <a:lnTo>
                  <a:pt x="4501" y="54006"/>
                </a:lnTo>
                <a:close/>
                <a:moveTo>
                  <a:pt x="11251" y="18002"/>
                </a:moveTo>
                <a:lnTo>
                  <a:pt x="108012" y="18002"/>
                </a:lnTo>
                <a:lnTo>
                  <a:pt x="108012" y="0"/>
                </a:lnTo>
                <a:lnTo>
                  <a:pt x="144016" y="36004"/>
                </a:lnTo>
                <a:lnTo>
                  <a:pt x="108012" y="72008"/>
                </a:lnTo>
                <a:lnTo>
                  <a:pt x="108012" y="54006"/>
                </a:lnTo>
                <a:lnTo>
                  <a:pt x="11251" y="540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4 Flecha abajo"/>
          <p:cNvSpPr/>
          <p:nvPr/>
        </p:nvSpPr>
        <p:spPr>
          <a:xfrm>
            <a:off x="4356000" y="1773360"/>
            <a:ext cx="287280" cy="5032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Explosión 2"/>
          <p:cNvSpPr/>
          <p:nvPr/>
        </p:nvSpPr>
        <p:spPr>
          <a:xfrm>
            <a:off x="2340000" y="0"/>
            <a:ext cx="4680000" cy="216072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Calibri"/>
              </a:rPr>
              <a:t>FORMU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Calibri"/>
              </a:rPr>
              <a:t>DE LAS SALES DO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419640" y="2276640"/>
          <a:ext cx="2073240" cy="191880"/>
        </p:xfrm>
        <a:graphic>
          <a:graphicData uri="http://schemas.openxmlformats.org/drawingml/2006/table">
            <a:tbl>
              <a:tblPr/>
              <a:tblGrid>
                <a:gridCol w="2073240"/>
              </a:tblGrid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siguen los siguientes pa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92" name="7 Conector recto de flecha"/>
          <p:cNvCxnSpPr/>
          <p:nvPr/>
        </p:nvCxnSpPr>
        <p:spPr>
          <a:xfrm flipH="1">
            <a:off x="2484360" y="2492280"/>
            <a:ext cx="1440360" cy="650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14 Conector recto de flecha"/>
          <p:cNvCxnSpPr/>
          <p:nvPr/>
        </p:nvCxnSpPr>
        <p:spPr>
          <a:xfrm>
            <a:off x="4932360" y="2492280"/>
            <a:ext cx="1440360" cy="650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18 Conector recto de flecha"/>
          <p:cNvCxnSpPr/>
          <p:nvPr/>
        </p:nvCxnSpPr>
        <p:spPr>
          <a:xfrm>
            <a:off x="4500360" y="2565000"/>
            <a:ext cx="108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95" name=""/>
          <p:cNvGraphicFramePr/>
          <p:nvPr/>
        </p:nvGraphicFramePr>
        <p:xfrm>
          <a:off x="1476360" y="3213000"/>
          <a:ext cx="1841400" cy="192240"/>
        </p:xfrm>
        <a:graphic>
          <a:graphicData uri="http://schemas.openxmlformats.org/drawingml/2006/table">
            <a:tbl>
              <a:tblPr/>
              <a:tblGrid>
                <a:gridCol w="184140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car el an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708360" y="3284640"/>
          <a:ext cx="1841400" cy="191880"/>
        </p:xfrm>
        <a:graphic>
          <a:graphicData uri="http://schemas.openxmlformats.org/drawingml/2006/table">
            <a:tbl>
              <a:tblPr/>
              <a:tblGrid>
                <a:gridCol w="1841400"/>
              </a:tblGrid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car los cat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084720" y="3141720"/>
          <a:ext cx="1841760" cy="576360"/>
        </p:xfrm>
        <a:graphic>
          <a:graphicData uri="http://schemas.openxmlformats.org/drawingml/2006/table">
            <a:tbl>
              <a:tblPr/>
              <a:tblGrid>
                <a:gridCol w="1841760"/>
              </a:tblGrid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r si los nombr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los cationes present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fij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23 Elipse"/>
          <p:cNvSpPr/>
          <p:nvPr/>
        </p:nvSpPr>
        <p:spPr>
          <a:xfrm>
            <a:off x="3708360" y="3573360"/>
            <a:ext cx="1655640" cy="43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Calibri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132000" y="4005360"/>
          <a:ext cx="2756160" cy="237960"/>
        </p:xfrm>
        <a:graphic>
          <a:graphicData uri="http://schemas.openxmlformats.org/drawingml/2006/table">
            <a:tbl>
              <a:tblPr/>
              <a:tblGrid>
                <a:gridCol w="2756160"/>
              </a:tblGrid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nato doble de potasio y so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00" name="26 Conector recto de flecha"/>
          <p:cNvCxnSpPr/>
          <p:nvPr/>
        </p:nvCxnSpPr>
        <p:spPr>
          <a:xfrm>
            <a:off x="3634920" y="4220640"/>
            <a:ext cx="1080" cy="28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27 Conector recto de flecha"/>
          <p:cNvCxnSpPr/>
          <p:nvPr/>
        </p:nvCxnSpPr>
        <p:spPr>
          <a:xfrm>
            <a:off x="5003280" y="4220640"/>
            <a:ext cx="1080" cy="28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28 Conector recto de flecha"/>
          <p:cNvCxnSpPr/>
          <p:nvPr/>
        </p:nvCxnSpPr>
        <p:spPr>
          <a:xfrm>
            <a:off x="5579640" y="4220640"/>
            <a:ext cx="1080" cy="28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103" name=""/>
          <p:cNvGraphicFramePr/>
          <p:nvPr/>
        </p:nvGraphicFramePr>
        <p:xfrm>
          <a:off x="3203640" y="4437000"/>
          <a:ext cx="2755800" cy="192240"/>
        </p:xfrm>
        <a:graphic>
          <a:graphicData uri="http://schemas.openxmlformats.org/drawingml/2006/table">
            <a:tbl>
              <a:tblPr/>
              <a:tblGrid>
                <a:gridCol w="275580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ión                           catión         cat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32 Rectángulo"/>
          <p:cNvSpPr/>
          <p:nvPr/>
        </p:nvSpPr>
        <p:spPr>
          <a:xfrm>
            <a:off x="2987640" y="4581360"/>
            <a:ext cx="366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MX" sz="1800" spc="-1" strike="noStrike" baseline="30000">
                <a:solidFill>
                  <a:srgbClr val="000000"/>
                </a:solidFill>
                <a:latin typeface="Calibri"/>
              </a:rPr>
              <a:t>-2                            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s-MX" sz="1800" spc="-1" strike="noStrike" baseline="30000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s-MX" sz="1800" spc="-1" strike="noStrike" baseline="30000">
                <a:solidFill>
                  <a:srgbClr val="000000"/>
                </a:solidFill>
                <a:latin typeface="Calibri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MX" sz="1800" spc="-1" strike="noStrike" baseline="30000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9 Flecha a la derecha con bandas"/>
          <p:cNvSpPr/>
          <p:nvPr/>
        </p:nvSpPr>
        <p:spPr>
          <a:xfrm>
            <a:off x="6012000" y="4508640"/>
            <a:ext cx="288720" cy="144360"/>
          </a:xfrm>
          <a:custGeom>
            <a:avLst/>
            <a:gdLst>
              <a:gd name="textAreaLeft" fmla="*/ 22320 w 288720"/>
              <a:gd name="textAreaRight" fmla="*/ 252720 w 2887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88032" h="144016">
                <a:moveTo>
                  <a:pt x="0" y="36004"/>
                </a:moveTo>
                <a:lnTo>
                  <a:pt x="4501" y="36004"/>
                </a:lnTo>
                <a:lnTo>
                  <a:pt x="4501" y="108012"/>
                </a:lnTo>
                <a:lnTo>
                  <a:pt x="0" y="108012"/>
                </a:lnTo>
                <a:close/>
                <a:moveTo>
                  <a:pt x="9001" y="36004"/>
                </a:moveTo>
                <a:lnTo>
                  <a:pt x="18002" y="36004"/>
                </a:lnTo>
                <a:lnTo>
                  <a:pt x="18002" y="108012"/>
                </a:lnTo>
                <a:lnTo>
                  <a:pt x="9001" y="108012"/>
                </a:lnTo>
                <a:close/>
                <a:moveTo>
                  <a:pt x="22502" y="36004"/>
                </a:moveTo>
                <a:lnTo>
                  <a:pt x="216024" y="36004"/>
                </a:lnTo>
                <a:lnTo>
                  <a:pt x="216024" y="0"/>
                </a:lnTo>
                <a:lnTo>
                  <a:pt x="288032" y="72008"/>
                </a:lnTo>
                <a:lnTo>
                  <a:pt x="216024" y="144016"/>
                </a:lnTo>
                <a:lnTo>
                  <a:pt x="216024" y="108012"/>
                </a:lnTo>
                <a:lnTo>
                  <a:pt x="22502" y="10801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40 Abrir llave"/>
          <p:cNvSpPr/>
          <p:nvPr/>
        </p:nvSpPr>
        <p:spPr>
          <a:xfrm>
            <a:off x="6300720" y="3860640"/>
            <a:ext cx="719280" cy="1440000"/>
          </a:xfrm>
          <a:custGeom>
            <a:avLst/>
            <a:gdLst>
              <a:gd name="textAreaLeft" fmla="*/ 459720 w 719280"/>
              <a:gd name="textAreaRight" fmla="*/ 719640 w 719280"/>
              <a:gd name="textAreaTop" fmla="*/ 18720 h 1440000"/>
              <a:gd name="textAreaBottom" fmla="*/ 142128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652"/>
                </a:lnTo>
                <a:cubicBezTo>
                  <a:pt x="10800" y="10102"/>
                  <a:pt x="5400" y="10552"/>
                  <a:pt x="0" y="10552"/>
                </a:cubicBezTo>
                <a:cubicBezTo>
                  <a:pt x="5400" y="10552"/>
                  <a:pt x="10800" y="11002"/>
                  <a:pt x="10800" y="11452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659640" y="4149720"/>
          <a:ext cx="2098440" cy="758880"/>
        </p:xfrm>
        <a:graphic>
          <a:graphicData uri="http://schemas.openxmlformats.org/drawingml/2006/table">
            <a:tbl>
              <a:tblPr/>
              <a:tblGrid>
                <a:gridCol w="209844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cationes no presentan prefij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 tanto no presentan subínd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la formula molecu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042920" y="5445000"/>
          <a:ext cx="2755800" cy="192240"/>
        </p:xfrm>
        <a:graphic>
          <a:graphicData uri="http://schemas.openxmlformats.org/drawingml/2006/table">
            <a:tbl>
              <a:tblPr/>
              <a:tblGrid>
                <a:gridCol w="275580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compuesto 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43 Rectángulo"/>
          <p:cNvSpPr/>
          <p:nvPr/>
        </p:nvSpPr>
        <p:spPr>
          <a:xfrm>
            <a:off x="2411280" y="5373720"/>
            <a:ext cx="13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aKCO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s-MX" sz="20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8T00:47:04Z</dcterms:created>
  <dc:creator>Claudia</dc:creator>
  <dc:description/>
  <dc:language>en-US</dc:language>
  <cp:lastModifiedBy>Claudia</cp:lastModifiedBy>
  <dcterms:modified xsi:type="dcterms:W3CDTF">2012-04-28T04:37:14Z</dcterms:modified>
  <cp:revision>28</cp:revision>
  <dc:subject/>
  <dc:title>Diapositiva 1</dc:title>
</cp:coreProperties>
</file>